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687-13F0-435C-B273-7140C19A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7FE-B44E-45F3-84BA-958AD1CC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BA9-B80A-46CE-9C54-B3E71989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3A0-0A02-41EA-823B-AE22A777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CFF0-7B03-4FBE-AC17-EF62AFBA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DAD6-33EF-4AA6-B28D-A949D573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E22D-6D3C-49B0-9BCF-15ED3284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2333-4AFC-45D6-8696-8C5F4194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018B-8227-4A85-A147-BF06AC62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AA8E-18F0-4FC7-A282-2643FFC2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8470-BF8B-4ECE-9D0E-FA1B5AAE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422-80E0-4AB9-B126-357512A0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F898-ACBE-4D67-A26F-19E71ECD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D742-4B1C-428C-BE41-ADEF21AB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DFE4-15A5-47F1-A996-78234F93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F783-F003-4B65-888E-B7CC0AF3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2A4B-5543-4FA9-BB06-0B8E73FE6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8FC-8D9E-4C56-B270-744A566F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D5F-678A-4FC5-B9A0-076C0AD6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960-4037-464E-AE88-10C67AAE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524-A5C3-4538-A599-DA244F05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EE7-3C39-44A6-835D-32919A77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16F-6DFE-4727-B3EC-6CF71041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AA9-B674-481C-A10D-BA5B78FF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F35B-F56A-4768-A17F-675479EAC9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2412-1BB5-4D71-B3C6-48D18CA0BA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yrene.org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Fox new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52480" y="1905120"/>
            <a:ext cx="5079960" cy="40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y: Cody ,Lucas, and Jos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64832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Volcano Erupt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cano erupts in Hawaii does 2.5 thousand in da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30480" y="1981080"/>
            <a:ext cx="27190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 causes volcano to erupt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6800" y="1981080"/>
            <a:ext cx="7608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Effects of volcano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dsl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thqua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v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lan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ling a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80844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afety Tips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y distance from volcano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touch the l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4343400" cy="3124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09680" y="52578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00-679-72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05320" y="0"/>
            <a:ext cx="172692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lav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epell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ff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8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2819520" cy="609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Resources 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fema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news.bbc.co.u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kidskonnec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volcano.und.nodak.edu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kyre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binmaxe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ggestsof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26:17Z</dcterms:created>
  <dc:creator>D83  User</dc:creator>
  <dc:description/>
  <dc:language>en-US</dc:language>
  <cp:lastModifiedBy>D83  User</cp:lastModifiedBy>
  <dcterms:modified xsi:type="dcterms:W3CDTF">2011-03-23T19:19:52Z</dcterms:modified>
  <cp:revision>13</cp:revision>
  <dc:subject/>
  <dc:title>PowerPoint Presentation</dc:title>
</cp:coreProperties>
</file>